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4618-19EC-46DE-BECB-0728F1C12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C09E-2D01-4B68-8A01-5A1070768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51C8-6508-4A26-85BE-05ACD214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AD68-FBAF-42B3-9968-848019C232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9469-0FE9-4539-8F6B-CE721FBFE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E7EC-6F39-4F08-B62F-D3D220690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93D3-3CED-46AA-97AD-1728F1F26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5F24-3A40-4252-910B-86AB48E72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B4DA-5405-4D43-9523-62F93E30B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35BB-A004-4121-A102-55E863D5F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7319-8F98-42CB-8920-23EA94406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9C7E-0BE6-4DD3-8B4C-DD7D31E8A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00440"/>
            <a:ext cx="3962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C96F-9CF4-4806-A143-3207633AE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6 (University at Buffa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mination of Ontology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bian Neu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t-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Ceu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irector of Biomedical Informatics, UB Health Science Facul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68B3-FC42-4F00-AF17-A0ED260DC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vel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i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nic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c scienc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omedical termi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25DC-6857-498C-A3C3-1C494545B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81D1-10D9-41A7-9468-E6E7968A58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portion of reality that forms the subject-matter of a single science or technology or mode of stu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ral infections in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EA46-6821-4235-9141-4AE354DCC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6CE3-E5D0-4F01-807A-B4A96A121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4992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267D-26AB-485B-9D08-59ECC62810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A055-E6A8-4E33-B084-5C5E20F800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17B3-4713-496E-AD60-1EAF31219A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91F2-465E-4C1C-BE9F-F2B46C1A12DB}" type="slidenum">
              <a:t>17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kinds of composit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representations (Lev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efacts (Level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ity on the side of the patient (Lev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594800">
            <a:off x="515520" y="2924280"/>
            <a:ext cx="914400" cy="647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85000">
            <a:off x="2437920" y="3047760"/>
            <a:ext cx="1957680" cy="647640"/>
          </a:xfrm>
          <a:custGeom>
            <a:avLst/>
            <a:gdLst>
              <a:gd name="textAreaLeft" fmla="*/ 305640 w 1957680"/>
              <a:gd name="textAreaRight" fmla="*/ 1713240 w 19576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484800">
            <a:off x="6408360" y="5080680"/>
            <a:ext cx="1212840" cy="1086120"/>
          </a:xfrm>
          <a:custGeom>
            <a:avLst/>
            <a:gdLst>
              <a:gd name="textAreaLeft" fmla="*/ 189360 w 1212840"/>
              <a:gd name="textAreaRight" fmla="*/ 1061280 w 121284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97EF-BA73-4AE4-AD21-CDB82951EA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CED1-8F30-4CAA-A7DB-A41B866E21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al Model of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, OBO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GO – Functional Genomics Investigatio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I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dical Imag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35B5-663E-4D8F-8C55-4A6B623CA9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995C-3383-4507-9E6C-5B20845E7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0428-342F-4D8F-97D4-778907D655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576F-4E59-4325-A237-55FE2B8C84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546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74CE-23DA-4167-AFD6-7634D8AF15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, inventories: represent what is particular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instances (O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, terminologies, catalogs: represent what is general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ypes (O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BE9C-3094-4E6E-9E32-2B47A36101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5C20-A116-476A-888D-7E0DFB1B41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D6E8-9F31-46C6-B4BE-ADDC94E8A8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ng” is not the name of a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5B99-0A75-42B5-9273-BA16BC8ED1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S Semantic Network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is_a B 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narrower in meaning than B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part_of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d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385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s one or more other physical uni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stand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6FFF-05E0-4FF3-B59E-68FD772C45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who think ontologies are representations of concepts make mistak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tal absent nipp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introduce or to remove other tube or instru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teri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rimental model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AC8F-542A-474E-B765-54ABB2A1AF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ontology as a tool for biomedical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0269-C7F6-4F2C-8BDE-19113844F3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is a tool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do not describe the concepts in scientists’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cribe the types in reality, as a step towards finding ways to reason about (and treat) instances of the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4265-1C32-42F5-8092-99DF63B2B6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inician has a cognitive representation which involves theoretical knowledge derived from text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1D37-42C2-4CDB-AF7E-E8F6411670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representation of types in re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4038480"/>
            <a:ext cx="1828800" cy="3812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EBAA1-83C7-400B-9DA0-9C6856830D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920A-9931-4FDE-9EE5-036D36D5EF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 stand in similarity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ank and Bill are similar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umans, mammals, animals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, mammal and animal are types at different levels of gran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000E-AB98-4E99-8D79-F274E9E0F4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88680" y="3390480"/>
            <a:ext cx="1597680" cy="1410840"/>
            <a:chOff x="688680" y="3390480"/>
            <a:chExt cx="1597680" cy="1410840"/>
          </a:xfrm>
        </p:grpSpPr>
        <p:sp>
          <p:nvSpPr>
            <p:cNvPr id="133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4"/>
              <a:endCxn id="135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68868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5028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135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5" idx="4"/>
              <a:endCxn id="140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43" idx="4"/>
            <a:endCxn id="144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145" name=""/>
          <p:cNvGrpSpPr/>
          <p:nvPr/>
        </p:nvGrpSpPr>
        <p:grpSpPr>
          <a:xfrm>
            <a:off x="5108400" y="572760"/>
            <a:ext cx="1749960" cy="1410840"/>
            <a:chOff x="5108400" y="572760"/>
            <a:chExt cx="1749960" cy="1410840"/>
          </a:xfrm>
        </p:grpSpPr>
        <p:cxnSp>
          <p:nvCxnSpPr>
            <p:cNvPr id="146" name=""/>
            <p:cNvCxnSpPr>
              <a:stCxn id="147" idx="4"/>
              <a:endCxn id="143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510840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143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0"/>
            <a:endCxn id="151" idx="1"/>
          </p:cNvCxnSpPr>
          <p:nvPr/>
        </p:nvCxnSpPr>
        <p:spPr>
          <a:xfrm>
            <a:off x="4789440" y="2171520"/>
            <a:ext cx="165024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55" name=""/>
          <p:cNvCxnSpPr>
            <a:stCxn id="144" idx="4"/>
            <a:endCxn id="152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158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425016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endCxn id="158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55022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33920" y="5410080"/>
            <a:ext cx="5181480" cy="838440"/>
            <a:chOff x="3733920" y="5410080"/>
            <a:chExt cx="5181480" cy="838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7339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5791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724280" y="5410080"/>
              <a:ext cx="83844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80773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6934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3480" y="2681280"/>
            <a:ext cx="1981440" cy="1281240"/>
            <a:chOff x="-33480" y="2681280"/>
            <a:chExt cx="1981440" cy="1281240"/>
          </a:xfrm>
        </p:grpSpPr>
        <p:sp>
          <p:nvSpPr>
            <p:cNvPr id="172" name=""/>
            <p:cNvSpPr/>
            <p:nvPr/>
          </p:nvSpPr>
          <p:spPr>
            <a:xfrm>
              <a:off x="609480" y="3048120"/>
              <a:ext cx="5922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33480" y="26812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f nod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0DAA-FD7B-4AE3-9A96-07DB16F2C0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ximal collection of particulars determined by a general term (‘cell’, ‘oophorectomy’ ‘VA Hospital’, ‘breast cancer patient in Buffalo VA Hospital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7150-FA6B-4D78-9AAF-AC1D489836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defined by a general term which does not designate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. 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0A74-C1DA-48DF-989B-AB7B98AA77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resentational artifact whose representational units are natural language terms (with IDs, synonyms, comments, etc.) which are intended to designate defined clas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ED44-5927-4EC5-A95C-EEF6675326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&lt; defined classes &lt; ‘concept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f those things which people like to call ‘concepts’ correspond to defin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 or other procedure not carried out because of patient's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25AA-B8C4-4C29-A269-DFB22AF583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 of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800" y="3900960"/>
            <a:ext cx="819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on consists in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entities in a give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, then, is an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information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624F-364A-49A3-AFCD-1AFFD98A45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_a HCFA Common Procedure Cod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7411-5AD5-4DDF-87CD-1326804246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CCB1-C1A5-496C-9873-905307419E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ft tissue tumor AND/OR sar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 differentiation or developm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ccidental submersion or drowning in water transport accident injuring other specifi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ture of other tendon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987E-6968-46E3-A9BE-628FA51725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needs to find uniform ways of representing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=def 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ypes in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ose relations between these types which obtain universally (= for all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4453-4455-46E0-8B4A-FEFC5389D9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divis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508F-F6FB-43E0-B10D-45D8623AD1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lation between types is more problematic than is standardly sup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being has_part human test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is part_of human be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A424-7A31-4D8E-87C8-A00D2FC95B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a relation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art_of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all instan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level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ome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testis part_of adult human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0BB1-14A9-4F9A-BBA6-3F608FB56DE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inds of par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inst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nucleus part_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98EF-BDAA-4AB8-BF25-9D45F01574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PART OF SO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53B5-E067-4C32-A000-5AE8123954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for enduring entit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LL-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UCTURE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5418-E361-47C2-B323-5251F0E8C3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1440" y="2666520"/>
            <a:ext cx="57150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20E0-85B6-4FD5-B7A0-D179A9B2E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art_of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 part_of C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-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definitions in the OBO-RO 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of i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withi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 betwee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i) between ontologies and EHR repositories of instance-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B64E-1F5B-4E17-9502-80881A0CC3F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is adjacent to this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ytoplasm is adjacent to this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yp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cleus adjacent_to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ytoplasm adjacent_to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42599" b="0"/>
          <a:stretch/>
        </p:blipFill>
        <p:spPr>
          <a:xfrm>
            <a:off x="7162920" y="2892600"/>
            <a:ext cx="1523880" cy="145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1C9A-EB68-4480-9F5D-A82A8688012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ymmetry e.g. for protein-protein interactions hmay hold only at the 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3043-FA73-42A5-A9C6-F443B5572BF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O Relation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600200"/>
          <a:ext cx="7162920" cy="4842000"/>
        </p:xfrm>
        <a:graphic>
          <a:graphicData uri="http://schemas.openxmlformats.org/drawingml/2006/table">
            <a:tbl>
              <a:tblPr/>
              <a:tblGrid>
                <a:gridCol w="2527200"/>
                <a:gridCol w="463572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undational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_a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_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acent_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mpo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tion_of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s_from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ded_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participant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a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64D5-7C57-47A7-AB2D-A4798B0740D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CA8D-C200-418A-B184-86597F095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 = our knowledge and beliefs abou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 = formalizations of those idea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4CB1-CC4D-4854-9A43-7847620C1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evels to Keep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: the reality on the side of the  organism (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2: cognitive representations of this reality on the part of clinic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3: publicly accessible concretisations of these cognitive representations in textual, graphical and digital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all interested primarily in 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59C0-EAC5-451A-8FB3-0FCD86D1DB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gnitive representations of clinicians or resear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embodied in their theoretical and practical knowledge of the reality on the side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FE33-55AA-41A2-A28E-C56A53803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4:58Z</dcterms:created>
  <dc:creator>phismith</dc:creator>
  <dc:description/>
  <dc:language>en-US</dc:language>
  <cp:lastModifiedBy>phismith</cp:lastModifiedBy>
  <dcterms:modified xsi:type="dcterms:W3CDTF">2006-03-03T05:37:15Z</dcterms:modified>
  <cp:revision>24</cp:revision>
  <dc:subject/>
  <dc:title>Slide 1</dc:title>
</cp:coreProperties>
</file>